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4006E-5DA4-4B86-94A7-EF4C2E996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CF436-556A-4A4D-BA08-BC9072C4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ED357-2C42-4492-A80D-066BDCD66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7EE0B-66BC-42C1-90DD-A6498304F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F55F2-13D4-47EC-9EB9-C6EDD900B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6974D-D771-4C20-8E47-2A7DD4A27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D0BE-A789-4130-B5FF-2250A027C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2A56E-13E2-46B0-8C69-3465B9DEC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9D466-360B-4113-8A63-15DD1B9A2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EA333-8C8B-48DE-ADD9-D671A093F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71F6E-A959-48F9-ACBA-1447DA6E3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34130-A1B1-45EF-8607-4EEE7CBD1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B532-5CE4-4E70-AFA7-3E6FAA509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7" name="Content Placeholder 5" descr="comp_i.jpg"/>
          <p:cNvPicPr/>
          <p:nvPr/>
        </p:nvPicPr>
        <p:blipFill>
          <a:blip r:embed="rId1"/>
          <a:stretch/>
        </p:blipFill>
        <p:spPr>
          <a:xfrm>
            <a:off x="5334120" y="1828800"/>
            <a:ext cx="2523960" cy="252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274680"/>
            <a:ext cx="746748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Guest</cp:lastModifiedBy>
  <dcterms:modified xsi:type="dcterms:W3CDTF">2012-06-15T12:33:20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